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F24-2F73-4C85-97E6-94DE6F09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62B-BB7B-4686-A283-12F7666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5B2-7906-4E8F-80AA-BF89A749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DF1-85F8-4EB4-98AF-41241344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BC6-C748-4128-ACA5-E3F3BB23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D2E-A554-46C8-8FB5-754240D4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A65-33E7-4110-A6BC-B08E983B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071-F43C-4D3A-B2B0-B7B9D84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3DC-AF26-4032-A82C-12628EAC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B63-3A78-421C-8B2C-9B292CB7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659-885A-4453-BA7C-7204B44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391-5887-4CAD-9A09-9AB30E6F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9AB7-CC56-4A21-9C62-646F4A40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10520" y="587700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4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05:25Z</dcterms:created>
  <dc:creator>J.E Campagne</dc:creator>
  <dc:description/>
  <dc:language>en-US</dc:language>
  <cp:lastModifiedBy>J.E Campagne</cp:lastModifiedBy>
  <dcterms:modified xsi:type="dcterms:W3CDTF">2006-04-06T15:06:11Z</dcterms:modified>
  <cp:revision>2</cp:revision>
  <dc:subject/>
  <dc:title>Diapositive 1</dc:title>
</cp:coreProperties>
</file>